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265B4-DF00-4B01-B29A-F25373DB7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5FAB6-A6E0-4FD1-8774-AB84BE33E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F7553-B792-425F-B1E4-64DD87E9E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F022B-8E31-45DE-A846-0E1199492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99B2-5382-461A-81AE-611CED0A1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1EB5-ED0F-459A-B50E-303831D7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E7C0-4A26-4A5F-BF7F-41CA2D039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C1F9-D1FD-4E26-A4FC-2911255E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3776-6211-4871-B196-222BC46A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1F28-DCB3-42B4-90E4-9E6E08F3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AA01-06BA-4055-8B5D-5D0A8607C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4757-E538-48EB-AE32-10A0F840A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25F0-6971-475C-A1F7-C41456E04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leeding Cowboys"/>
              </a:rPr>
              <a:t>Chapter 16 study guid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3,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nsider the following three strategies of persuasion: deception, fear appeals, and ingratiation.  When, if ever, do you think each one is ethically justifiable?  Explain your answer thoroughly, using examples. </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es are the basis for morality, not the strategy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tegy itself is neut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following approaches to ethics are discussed in this chapter: ends vs. means, consequentialism, deontological systems, amoralism (or Machiavellianism), situational ethics/relativism, universalism, egalitarianism, free market ethics, utilitarianism.  Pick five to describe and explain.</a:t>
            </a:r>
            <a:endParaRPr b="0" lang="en-US" sz="2400" spc="-1" strike="noStrike">
              <a:solidFill>
                <a:srgbClr val="000000"/>
              </a:solidFill>
              <a:latin typeface="Arial"/>
            </a:endParaRPr>
          </a:p>
        </p:txBody>
      </p:sp>
      <p:sp>
        <p:nvSpPr>
          <p:cNvPr id="46" name="PlaceHolder 2"/>
          <p:cNvSpPr>
            <a:spLocks noGrp="1"/>
          </p:cNvSpPr>
          <p:nvPr>
            <p:ph/>
          </p:nvPr>
        </p:nvSpPr>
        <p:spPr>
          <a:xfrm>
            <a:off x="456840" y="2057040"/>
            <a:ext cx="8458200" cy="44197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 vs. means: outcome vs how you got ther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ialism: weighing the good and the bad pragmatically</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ontological systems: focuses on inherent right and wrong, intent is what is important</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ralism/Machiavellianism: based on self-interest</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al ethics/relativism: there are no moral absolutes, it depends on the situation</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ism: universal do’s and don’ts</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alitarianism: using the golden rul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market ethics: let the buyer beware, little or not restaint on persuasive messages</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arianism: greatest good for the great number of people (John Stuart Mi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iscuss intentionality, conscious awareness, free choice/free will, and language and symbolic action as they apply to the ethics of persuasion. </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ity: is the message meant to persu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awareness: awareness of the parties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hoice/free will: the ability to question attempts to persuade, make choice about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nd symbolic action: language and action based attempts are easier to underst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chapter discusses three aspects of the idea of “persuaders are lovers.”  The three aspects are respect, equality, and tolerance.  Explain their meaning in this context, including an explanation of what “persuaders as lovers” means </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ethical attempts reaffirm the other party’s self-w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persuasion is most ethical when the parties enjoy equal status in the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erance: each party must be patient and listen to the other’s point of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cuss the ethics of using threats as a compliance gaining-strategy.  When, if ever, is this ethical?  Explain you answer. </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 with thre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sychological di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be exploi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inish the morale and esteem of the recip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 relation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foster resentme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6:57:30Z</dcterms:created>
  <dc:creator>nuhs</dc:creator>
  <dc:description/>
  <dc:language>en-US</dc:language>
  <cp:lastModifiedBy>nuhs</cp:lastModifiedBy>
  <dcterms:modified xsi:type="dcterms:W3CDTF">2007-12-03T19:34:41Z</dcterms:modified>
  <cp:revision>4</cp:revision>
  <dc:subject/>
  <dc:title>Chapter 16 study guide </dc:title>
</cp:coreProperties>
</file>